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89A-DD2E-435B-8748-6450F67D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769-B3A8-46B9-A3E9-5DFCE92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421-3F09-4387-9DFB-8A31BE57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487-F56E-48D0-8309-CFEB80B5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067-1FD1-4369-A3C9-96C1EF9C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862-84F7-4FC0-95A2-52D4868D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6A5-56B2-4C34-AF45-9CE1863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395-E686-41C9-9B7D-50315DB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15B-7B1B-48AB-BA7B-B0EA662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8A5-723F-4451-ADA8-206CF5C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CC0-2083-4F70-B1C4-B0CCCF3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49A-7299-4680-BE68-9219599B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A33C-EA46-485B-8D60-CF4DA42415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22.xml"/><Relationship Id="rId4" Type="http://schemas.openxmlformats.org/officeDocument/2006/relationships/hyperlink" Target="file:///&#30446;&#24405;.ppt" TargetMode="Externa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多线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981080"/>
            <a:ext cx="66294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创建线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实现线程间通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利用线程同步技术保障数据安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W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的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GetSafeHwnd(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返回窗口句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AfxBeginThread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程函数 （ 返回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UI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::GetActiveVie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::Sleep(100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线程间通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全局变量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间通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消息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间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间通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全局变量实现线程间通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上一节程序的基础上，进行以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“线程”菜单中添加菜单项： “终止线程”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THREAD_ST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中添加一个全局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Controll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来控制线程是否继续。添加方法是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上面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d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面添加下面的语句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olatile int threadControll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视类中为“停止线程”添加消息处理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o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495680"/>
            <a:ext cx="4267080" cy="1541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ThreadTestView::OnThreadStop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threadController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全局变量实现线程间通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，代码如下所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752480"/>
            <a:ext cx="80010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View::OnStartthrea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threadControlle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TreadProc, hWnd, THREAD_PRIORITY_NORM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7600" y="4724280"/>
            <a:ext cx="49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Pr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的代码，代码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61048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hile(threadControl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消息实现线程间通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定义消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const WM_THREAD_SENDMESS = WM_USER + 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添加消息函数声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fx_msg int  OnThreadSendmes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添加消息映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_MESSAGE(WM_THREAD_SENDMESS, OnThreadSendm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ThreadSendmes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68580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CThreadTestView::OnThreadSendme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iTime 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消息实现线程间通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hreadPro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）函数如下 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53452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threadControl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::PostMessage((HWND)param, WM_THREAD_SENDMESS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PostMessage((HWND)param, WM_THREAD_SENDMESS, 0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：有两种状态：通信状态和非通信状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创建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的对象很：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CEvent threadStart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他自动的处在未通信状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threadStart.SetEvent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其处于通信状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WaitForSingleObject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监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::WaitForSingleObject(threadStart.m_hObject, INFIN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上一节程序的基础上，进行以下操作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：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#include "afxm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加上下列两个全局变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CEvent thread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CEvent thread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中的内容。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o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中的内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hread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M_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消息处理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267080"/>
            <a:ext cx="396216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a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eadStart.SetEvent(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267080"/>
            <a:ext cx="403884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op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eadEnd.SetEv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建线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调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xBeginThr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）来启动线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76320"/>
            <a:ext cx="8763120" cy="7375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::WaitForSingleObject(threadStart.m_hObject, INFINI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BOOL keepRunning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hile (keepRu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result = ::WaitForSingleObject(threadEnd.m_hObject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f (result == WAIT_OBJECT_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keepRunning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PostMessage((HWND)param, WM_THREAD_SENDMESS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292400"/>
            <a:ext cx="876312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CThreadTestView::OnCreate(LPCREATESTRUCT lpCreateStruc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CView::OnCreate(lpCreateStruct) =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specialized crea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BeginThread(TreadProc, hWnd, THREAD_PRIORITY_NORM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itical Sec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互斥对象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信号量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mapho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CCriticalSection   criticalSec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riticalSection.Lock();  /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访问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riticalSection.Unlock();  /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访问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线程安全类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68580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Int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riticalSection criticalSec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~CIntArray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SetArray(int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Array(int dstArray[1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线程安全类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600200"/>
            <a:ext cx="381024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stdafx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IntArray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~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523880"/>
            <a:ext cx="45720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SetArray(int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[x]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Un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GetArray(int dstArray[1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stArray[x] = array[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Un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例子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0512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应用向导创建一个单文档应用程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的头文件和实现文件中添加到项目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编辑菜单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程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_THREAD_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启动线程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视类中添加该菜单项的响应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Thread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066680"/>
            <a:ext cx="85345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，加入下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MainFrm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afxm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IntArray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IntArray intArr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t       iArray1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nt intSet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下面两个全程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UINT WriteThreadProc(LPVOID pa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UINT ReadThreadProc(LPVOID pa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Draw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添加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760" y="920880"/>
            <a:ext cx="867096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WriteTh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1; i&lt;=10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SetArray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SetNumber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2000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920880"/>
            <a:ext cx="867096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ReadTh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GetArray(iArray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ThreadTes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菜单响应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写线程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视中输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760" y="920880"/>
            <a:ext cx="867096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View::OnStartthrea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WriteThreadProc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3818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str[7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数组设置的值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ntSet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3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1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5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3.2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使用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（互斥对象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上例中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itical secti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替换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676520"/>
            <a:ext cx="784872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Int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utex mut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~ 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SetArray(int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Array(int dstArray[1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3.2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使用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（互斥对象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54000"/>
            <a:ext cx="365760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stdafx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CIntArray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~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920880"/>
            <a:ext cx="464796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SetArray(int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ingleLock single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[x]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GetArray(int dstArray[1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ingleLock single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stArray[x] = array[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3.3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使用信号量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maphore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创建信号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CSemaphore Semaphore(2, 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创建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ingleLo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CSingleLock singleLock(semaphor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减小信号量计数器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singleLock.Lock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增加信号量计数器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singleLock.Unlock 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676520"/>
            <a:ext cx="670536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Int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utex mut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emaphore *semapho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~ 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SetArray(int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Array(int dstArray[1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611360"/>
            <a:ext cx="403884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maphore = new CSemaphore(2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~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semapho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143000"/>
            <a:ext cx="44956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SetArray(int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ingleLock single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[x]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GetArray(int dstArray[1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ingleLock singleLock(semapho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stArray[x] = array[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leep(2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修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threadTestView.cp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件的开始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828800"/>
            <a:ext cx="403848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MainFrm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IntArray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 intArr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1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2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3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4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5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6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7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intSetNumber;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改写视类中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nThreadSt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828800"/>
            <a:ext cx="64008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a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WriteThreadProc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1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2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3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4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5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6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7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添加另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线程函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76520"/>
            <a:ext cx="845820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ReadThreadProc2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GetArray(iArray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MenuT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Thread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单文档界面应用程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ingle docum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762120"/>
            <a:ext cx="84582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ReadThreadProc3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GetArray(iArray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改写视类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nDra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0"/>
            <a:ext cx="8458200" cy="247863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str[7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写线程为数组设置的值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ntSet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3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1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5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2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7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3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9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4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1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5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3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6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5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7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7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772400" y="617220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编辑资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菜单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p-up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                      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线程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THREAD_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任务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TREEAD_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4800600"/>
          <a:ext cx="273384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800600"/>
                    <a:ext cx="27338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3680" y="419112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D_DIALOG_THRA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0200" y="48006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DlgTh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添加菜单响应函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Objects ID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hreadTestView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THREAD_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hreadTestView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TREEAD_OTHER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432160"/>
            <a:ext cx="762012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a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TreadProc, hWnd, THREAD_PRIORITY_NORM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419720"/>
            <a:ext cx="701064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aedOther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Thread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写线程函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视类中添加两个成员变量。并在构造函数中初始化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057400"/>
            <a:ext cx="411480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lass CThreadTestView : public C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String m_strMess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   m_iTi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057400"/>
            <a:ext cx="426708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::CThreadTest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没有线程启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iTime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视中输出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143000"/>
            <a:ext cx="838188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Thread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ThreadTe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har chNumber[6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toa(m_iTime, chNumber, 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DC-&gt;TextOut(30,30, m_strMess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DC-&gt;TextOut(30,50,ch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线程函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0880"/>
            <a:ext cx="891540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while(pView-&gt;m_iTime &lt; 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iTime 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18:26Z</dcterms:modified>
  <cp:revision>125</cp:revision>
  <dc:subject/>
  <dc:title>第四章   菜单、快捷键和控制条 </dc:title>
</cp:coreProperties>
</file>